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29A-19B2-4CC8-A4E1-57C1344B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593-78B2-4859-84D9-B5BCBD06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93D-4E28-476C-905A-A2E5A36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3F1-E738-467D-BB0E-6CDA6B04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7996-661E-4E83-A0E1-231E447E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5D3C-2C39-449C-A031-B1E07142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C5E-AAD2-4216-B3BE-896F1AE9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B068-6549-4E2E-BD67-AD6F4E1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7445-B292-474F-B4B5-BD829DD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A14C-4F24-4E42-BC96-E47C58B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57C-D2E9-4E52-8593-761734D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EA5-0126-459C-BCFE-B1517A08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F01-75C9-4F1B-8E07-F40E1AA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5BB0-9EB2-4D4F-9998-E334347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6BF1-B908-4607-8ABE-5BD4FA6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6EFE-AD1E-407A-9421-57D72F8F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548-BCFA-4FA7-9087-B624C2EA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28F8-A336-4B35-83DD-22FABEA0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ADF4-6AA6-45B4-A91B-604A999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EA5C-703A-4162-B952-40240F4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A4CA-1D32-42BD-8870-3739BD6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4B0D-9D2A-47DD-85B7-F212074F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18F-734E-4369-BE0A-D386026A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6FCC-8DA3-4A40-9C4A-8D9E1AF7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2CDC-C2D6-4557-9FA9-3F159A7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3B10-58AE-4F27-A0B3-E559762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ADA9-ADF4-489F-AD55-A2646A04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D533-A986-4333-B511-A32CC65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4A14-E1C4-4554-B635-E10443BF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8507-8DA7-4EDB-BA42-5210CA6B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2D14-A092-4943-81B1-F5E148DC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0C57-338E-4ADA-84D5-573006E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D2BD-8468-4E90-9CDB-F426D82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223-310A-4F97-8E0B-9A6B443D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9ABA-13C5-4592-A1CA-96816A3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E3C65-46B0-49A0-A023-20DD58F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70A3-5512-459B-A267-F4D3B245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B19D-9891-40E9-B9CA-3BFFD46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BC0D-4DD5-40F6-94F8-9C63392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3FDB-0687-46B7-B4AF-4C65721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5C54-6CFF-48AC-8E02-84532E4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1D57-09E1-4B09-A030-D3224A83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4B33-36AB-499E-875F-266B20E4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4BF5-F0DB-4A68-8F1A-FB50117C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A89-F0E2-49C3-A97E-1CCFBF07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6985C-BC5C-4A9E-9457-09F819D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5F56-BE0A-4944-8E66-5EA8594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F37E-CA40-4745-B0FD-EE01F63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AD06-BA6C-4BD3-B178-C548F2D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109D-45C2-4C53-B25D-22401BA8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2BD4-5DAB-4195-ACEC-98BFE7A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3165-3176-464C-A713-ABB0FC8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9552C-6A63-48FA-BA03-246ECE7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7BAC-7955-4999-86BA-6A6FB83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76E4-9AEF-4109-901C-15F63B7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24B-9BDE-4E9F-8E8D-41D3686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8691-0DE9-40A4-8934-299E7802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8E64-CCCC-40E3-9B09-74AB50CB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79F0-80E7-421A-AFCD-3F46D9D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094E-E542-4B19-98AB-A4FD1FE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72A1-7184-4418-97B0-5013C6D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B8F4-9645-471E-B54E-D1C0861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7E43-4E80-4D83-B316-FC9CCED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2057A-2298-4843-BF86-B46ACCF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EC6E-1045-4D27-AC34-11ADE64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2863-070B-4A88-927E-7F9D87B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327-EF75-4FF3-9AC1-561C9C5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66C8-2B2E-4EAB-BD13-E8FE59C0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516DF-CE03-4EEB-AC1F-5E0825D5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0C3F-6638-4901-8EE8-0BF5300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6C0A-70A3-4129-9C44-10DFBA07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E17E-596B-42B7-B095-A79F7B3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386E-0316-4C47-BACA-C6F13FD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A0F1-4B37-43AE-A859-AE18B8A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D97D5-45B8-402E-8397-FD6E454E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6DDB-340E-49F4-AF80-B19BD0D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4059-75D0-450C-9A0D-7F3E7FB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87D-B503-4CFF-AE7D-3AC0B2E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5616-B491-4CFD-B401-78EC4E3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153B8-7B93-428B-8A55-1AE5CE4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2F97-E8A7-4065-9902-5F2C1392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82F2-FB57-49AC-8A86-E054D14B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A155-7884-49BD-922D-8881F0A3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F7A2E-5D3C-4FE7-87DF-C98B303A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698D-DBAA-4F6E-9641-CABE11E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19B7-314F-4AB5-A3BE-B374E8E6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7761-0A96-4FE3-A492-A26C5424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92B65-06B6-46FE-8FE3-D2FAB1B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2AF-A30F-49E7-A2D6-16130B1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EFAA7-CFAB-4201-952A-CC916DD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DFB5-6BA2-421A-9C0A-272FA91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21A8-9790-4447-9128-3179A3A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5EC9-BF73-4F2A-8D60-455B918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A6524-F57C-449C-8288-DB56AE29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7A977-42AD-45D5-8CBB-DF2AFFD9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E822-A9D3-4783-8739-712825CC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7E3-4E2C-4667-9A2D-91A6F7B2C4A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981C-BCBD-4166-9602-ED249B4D6F3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60DA-2E99-405D-B728-61632D1AC2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10B-2DE6-4B46-8FEE-8CFEF3164A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3D6F-0EEB-4B31-B4A4-92AC7F30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1D5-0BBC-4CBC-9F73-77F05C7B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4AD6-03E7-469A-A3A2-8CA17381E91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C02-672F-405D-ABC7-974D69989BC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629400" y="48369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Josh 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Computer #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839880" y="839880"/>
            <a:ext cx="7084800" cy="30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ff00">
                        <a:alpha val="45098"/>
                      </a:srgbClr>
                    </a:gs>
                    <a:gs pos="100000">
                      <a:srgbClr val="9900ff"/>
                    </a:gs>
                  </a:gsLst>
                  <a:lin ang="5400000"/>
                </a:gradFill>
                <a:latin typeface="Impact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ffff00">
                      <a:alpha val="45098"/>
                    </a:srgbClr>
                  </a:gs>
                  <a:gs pos="100000">
                    <a:srgbClr val="99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576520" cy="24433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280" y="3412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nvented By: Robert Cad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0880" y="5562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6/1/11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33cc33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20" name="" descr="Cade"/>
          <p:cNvPicPr/>
          <p:nvPr/>
        </p:nvPicPr>
        <p:blipFill>
          <a:blip r:embed="rId1"/>
          <a:srcRect l="0" t="0" r="56819" b="0"/>
          <a:stretch/>
        </p:blipFill>
        <p:spPr>
          <a:xfrm>
            <a:off x="304920" y="0"/>
            <a:ext cx="3733560" cy="38289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Cade"/>
          <p:cNvPicPr/>
          <p:nvPr/>
        </p:nvPicPr>
        <p:blipFill>
          <a:blip r:embed="rId2"/>
          <a:srcRect l="54845" t="0" r="0" b="0"/>
          <a:stretch/>
        </p:blipFill>
        <p:spPr>
          <a:xfrm>
            <a:off x="4724280" y="762120"/>
            <a:ext cx="4038840" cy="609588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33520" y="51814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5029200"/>
            <a:ext cx="373392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melson MIT,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Gatorad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/16/11,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 Black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vention/Gator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orade is a sport drin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atorade was the first sun bowl drin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esides w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Its really popular in the day of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t the name from the Florida Gato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t was in a glass bottle before they put it in the plastic bott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ntor/Robert C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He was born in 1927 in Flor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truck a deal for Gatorade in 197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Verdana"/>
              </a:rPr>
              <a:t>The first ever Gatorade down pore on the coach was the Football team the New York Gi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e died in 1996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Verdana"/>
              </a:rPr>
              <a:t>He invented 15 different flavo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22Z</dcterms:created>
  <dc:creator>install</dc:creator>
  <dc:description/>
  <dc:language>en-US</dc:language>
  <cp:lastModifiedBy>install</cp:lastModifiedBy>
  <dcterms:modified xsi:type="dcterms:W3CDTF">2011-06-01T17:35:54Z</dcterms:modified>
  <cp:revision>9</cp:revision>
  <dc:subject/>
  <dc:title>Slide 1</dc:title>
</cp:coreProperties>
</file>